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8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move the slid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40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C2D5A2CF-EF20-4D91-B91D-7ABCAFBD61A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EEC9C3-148D-4500-B5FC-0079FD808719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3440" cy="3833640"/>
          </a:xfrm>
          <a:prstGeom prst="rect">
            <a:avLst/>
          </a:prstGeom>
          <a:ln w="0">
            <a:noFill/>
          </a:ln>
        </p:spPr>
      </p:sp>
      <p:sp>
        <p:nvSpPr>
          <p:cNvPr id="733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F991ADD-92D4-4B92-8F9B-EF9252E48B3F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7709EF-F041-4CFF-BD94-4BF2ECA2D87D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69B9FA-8CB2-4555-9392-0233C0E1A83A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F8232A5-5754-4086-A356-EFDD7BBD352E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CE6335-55D8-4427-928F-53C81F28F9DC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06440" y="5075280"/>
            <a:ext cx="6495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0D710BB-4166-46FC-BCC3-3CACC1CF0E1A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B49936-F00F-4D19-8855-23142DB80688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FF5B41-5DFA-4CEA-9906-944F3075395C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FE86A6-4DCD-4D24-A8BA-5FC6677E49D0}" type="slidenum">
              <a:rPr b="0" lang="fr-FR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DCC1A38-B14D-4017-8DA9-B8B1E8E08938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A21655-385A-4E6C-854B-D4D9FFCB87DD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Espace réservé de la date 5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8CEB2CD-2A73-4A31-BAE8-1758A146DBC2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63A74FCF-E5B6-469E-91B5-7D56274898F5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91A0CC9-2BE1-4078-B89C-58D5169BB633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669354D-D9E3-4A47-B90C-3D10CB87A565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5D58AA9D-056A-4E39-9F73-AB9731A80DDD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9712573-9750-4BD5-B3CA-8F9E92D78FF1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317A0DB-47B9-492C-B1F7-DC6A17DE278B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D283F548-0C9B-43E0-A41C-357DEFE1DAB6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3D4DF71-FAB6-460E-A104-89F545FD9C6C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7D8C0F2-4C9F-46AA-B409-0E90810C590D}" type="slidenum">
              <a:rPr b="0" lang="en-GB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939960" y="5118120"/>
            <a:ext cx="5516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Espace réservé du numéro de diapositive 3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4C7F9E90-D45C-4B01-BC34-56B69DE4413A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Espace réservé de la date 4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6"/>
          <p:cNvSpPr/>
          <p:nvPr/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G.Payen, Conseil Economique et Social, Paris, 2 mai 200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CE9571-6125-4BE2-9189-4DC6259A4451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716040" y="4875120"/>
            <a:ext cx="55166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Espace réservé de la date 6"/>
          <p:cNvSpPr/>
          <p:nvPr/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B25-30BA-4FB8-B955-F2C38125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74F-971B-4FC7-9886-1C2F909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804F6-069E-4B8A-A933-D4E11DE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90ABC-1D49-4A43-8325-64616F3E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DCCE7-C278-4C31-9DB2-77F3BBB1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BD4EF-2804-424B-92BA-79A2E3D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01BDF-71EF-49A2-81BF-8FDF8A9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65190-BA18-420E-ABDE-4235D51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0E9EE-5D16-40E7-9A88-AD3D4188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39E63-FAE9-4877-92C7-E158E195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B2343-9798-4F39-8530-39B7358D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9ABE4-DD7C-4EEB-BF7A-A2AA3F5C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2D9-223D-4339-8DAD-6F7AE291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19F6-D26B-45A9-9AF6-55D8BF6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BD92B-06C8-4FB6-8CF3-1493AD71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B3136-81D5-498D-9BA5-BA87B96C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5BCDB-A855-45F6-A5C6-D02EF57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04844-3606-49C6-A44F-C99FD6F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1626-5BC3-4793-A2BA-C0F7613A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59E7A-F5BC-41B7-BE65-36BB919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F5EB1-67F6-4636-AAAE-0025256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1EFBA-7DDA-490C-AE3A-B02AF9D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F6950-3514-44DF-BC23-22996F96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222-6572-45AD-81F1-130D992F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8B58A-57EA-463B-892B-D62D7C04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73B6-51FC-4885-A028-AED8C5D2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83971-5DA6-4896-AD6A-7AB21328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B939-0827-4936-ABC4-382C7BC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D1F19-FE85-425E-BCAF-DC36A6B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632C7-DEE4-4DAC-8EA9-3C748B0D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63E30-C2D1-4C7F-BB9C-9B210ECB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FFBD9-5D88-4818-B6C0-28E06EC1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DEF78-EAC8-4937-9929-42C4E7D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C98A-4A07-4907-A82E-0F34ED0B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99E-19D5-442A-8BB1-C56D5DD1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60795-1C64-4D31-96DE-E08EB25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DD1B7-2B87-462F-88A8-4992AE3A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79365-B716-40A1-92BC-E8DD2D32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24DB6-AFA9-41BA-8413-6DC3FA14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4943-3E5F-4DBE-8942-6FAF84B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4AF3C-2893-4727-A9FD-074EF81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10EEF-CC4A-413C-91E7-C35AA573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40226-B8F4-477A-B00F-89557555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34998-187D-4EE9-B13D-54E1B98A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6C2D8-19C1-4EF3-B094-1F46A32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CC7-B8F3-4CC0-BAF2-8D624923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3BCD0-6181-4E9F-BE55-8A4F718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FC709-21D4-4924-8FC1-F504676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4D2FF-507D-4AE3-99FC-E47B4CA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2AB96-47BC-46CA-9D51-E35B228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0A83D-2467-4AA0-9F48-98AFE14D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905512-A0C8-4C76-B94C-EF8EA68655B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D4DF8F-C504-45B4-9D7F-7C538C906DC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C0E2EF-59AD-4538-9D05-E5448109801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CCF209-69AC-47F6-BBD8-9A5BC8525B8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ED0802-3201-47A1-8CAA-9692776B55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193-7C1C-477C-8301-706DADA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197BCD-ACCE-4877-AA3B-BFED0DAB32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D339BA-1AC7-4821-96BD-D504D1876DE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6127A8-E765-4840-9BE9-C0A3E7E170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EBF1A3-E75B-4582-9954-2AD5248D5A3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631056-A28C-4001-96AA-4520AFC719E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0AE710-373B-42FC-A6B5-BAEEDD879D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40EDC5-7D19-4144-95F3-BEB570BB6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487A-C60F-4240-B952-834DB781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D501-B42E-45ED-9C11-12DBD912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AEC6-763C-4A30-BB6C-FCED7AB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A467-359B-4D0D-81D8-3300767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45E-A09D-481B-AA19-9D9298E3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21CF-3D32-4A8F-851B-293B267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B30B-36C5-42B6-80F7-09E0A32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47A-D17D-42E6-8820-4B373122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BEC7-CB1C-453E-8BD3-BCDB0944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275-C758-429B-B119-67BF85A0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FD1A-DC37-42E8-A999-FB541979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00DF-8FCD-4BAD-808B-6602B53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E9CC-42BD-49C7-8494-6598542D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7BD0-74CB-4AD3-86C2-3D97D78D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C945-FFE7-4A2D-B97F-7787CE72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F7A-8D6B-4C1B-993D-F6895CF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D853-D5E8-42E3-BC8D-9FE389C5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6CA8-B6A5-4818-8319-0169F4A1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56B4-D271-4356-88FB-B2C4CCF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24A1-E46F-4253-ACED-9CE5DC41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3868-32E0-4AF1-8CE5-35ACFE0C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D730-65E2-4772-A953-1AE2BB4A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CFFB-6B53-4A19-8E19-50E66B7B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FABA-0AE7-4332-81AB-4115FCD6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8AA2-255D-4F01-9D25-2BB6B7C3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7524-EEFD-4733-A250-E972C11D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922-E300-4C50-BC47-FEF5A7B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94AB-7010-43B6-842F-D285FC8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A6020-8CFD-4E7E-BF18-2835F35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6D1B-0999-4B30-B0D8-4A18353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C34A-A482-47E6-949B-5129F60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0C9E-28A8-4892-B318-ECDFBF9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D91F-A513-4264-BA24-3EB53AF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3F6A-8A76-4568-ADD3-031C781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1F26-2776-4D81-B90F-4DCDED8E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E756-3F9D-4553-9357-E3344532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0ACEB-3537-4496-B1F8-635378F5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D6A-9D2F-426F-A2CF-DE101F0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0F6E-8D7D-4CF2-AC73-9F2C87D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C4B8-EEEE-4BB8-AD26-59CBFCFF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2755-FCA9-43A4-A5BA-CDF7EA5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4A1E-90E1-4A6E-A475-EDABB851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FAA0-4C87-40B3-9BBD-F01A59A7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9BE3-2641-4A6E-A4B4-91A5A10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C2CB-7E03-465B-B069-7326FBC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AFA0-9B6C-4D8A-A375-9BC24C8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6EB4-CF89-4026-B1EE-4C9E7251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33DA-D083-4316-9444-02DA9112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55D-D9CB-420B-9068-1E9BFEB7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B450-E51B-425C-B189-37ECF6A4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C76E-838A-4790-9B4D-61D63988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A445-810A-4E2F-A4BA-41DAC24E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6AC7-423A-4A7A-A578-D43C3BF4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7E42-1981-488A-A14D-5C68E711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7259B-7573-4542-94AF-CD1E64B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4AF1-F153-4AA3-AF3D-BB459A2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BCF3D-D805-4CCD-B214-4EE268A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E554-AECA-40C9-93D4-4EDFFE17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5255-9535-4ED3-A854-2DE0F74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3C0-DB37-4FB0-87C5-7BA81FEF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21E5F-B65B-4642-9907-7A98AF43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2218-E47D-48F1-882B-80533C84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703B-A4DF-490D-BB12-F04489D5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DF082-E8F5-42F6-89B0-39CC2008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4EBD-A16F-4891-87E5-C9C3CF06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0103-5515-4E56-A787-CEDEF9C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7AB1-2715-40BB-A90A-2C4B8D6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91FB-D314-4EE0-BDD0-F814BCE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73FD-54BA-4204-9F21-1F91FC6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EE8B-7415-479A-9D4A-FC9E174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BD7-769E-42B6-9508-1A99AD8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7D04C-5D01-4A8C-AF3A-4A8F566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A766-BCC1-4973-84DF-80DEDFA4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3F88-77DD-4498-9B77-77EDBB8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B70D-CD54-49B7-AFEC-93B353D3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3438-711E-416A-8AA6-176C746F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7C1E-0142-4576-AB40-621A7696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EEBE-6359-4289-84C4-A0A535BE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368CC-DABB-4D7E-8DD7-98F9DDA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5B81-03FD-4C76-9637-A5A3A0F9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BFDAB-C5EC-4BB0-B45D-583B97F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CE7-EC3C-48B8-9A7C-02F29C8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85AA4-BDD6-4BF5-AC0D-1212DDF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13FB3-5D8E-4F54-9D13-71D1414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C031B-5C45-4AAD-89C0-F6B4011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59782-8D2F-49D9-9500-07E892F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85BC-3198-4549-B3DB-CF00784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396E0-D6D3-4A8F-863E-95685FD9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F5F8D-60C2-4AA0-89BA-C1C39D48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B1BBE-BAAD-48BD-95B9-6FD09EF3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F6F32-043F-4FDE-AECC-9F04DF32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39DFE-E556-4D14-86B7-AAF92F0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</a:t>
            </a:r>
            <a:fld id="{6EBBA563-38AA-4FC3-A097-B98C7ED1A90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81F0-7D3E-480C-9181-466698CFF6E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7975-6C45-4D47-A750-1ABDEB84533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4A5-B0DB-4FD0-AF35-E4615BDBD14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E72-65C7-47E5-B0AB-8F9AA0CE0714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084A-8402-438A-BC8A-39314C1D4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57480" y="6071760"/>
            <a:ext cx="2895480" cy="78588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G.Payen    </a:t>
            </a:r>
            <a:fld id="{21B096A6-3965-4795-8518-61CFFC719A5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838A-DC91-4A6E-A3D7-20FCE2A068D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3DE-0729-41AE-BF70-B36B99F5C29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8EC-F61C-47CC-AD3A-E4F170FBBEA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3E74-7720-4D2F-8F96-F71FE536882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63FB-C97C-4392-A484-AD0F140C823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radeGothic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ade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D883-7ED8-4250-AC69-E4A67722756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14240"/>
            <a:ext cx="7490160" cy="257040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Assurer le droit à l’eau potable et à l’assainissement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pour la moitié urbaine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TradeGothic"/>
              </a:rPr>
              <a:t>de la population mondiale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78920" y="6286320"/>
            <a:ext cx="6535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radeGothic"/>
              </a:rPr>
              <a:t>Paris, Réseau Projection, 19 janvier 2012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08000" y="3911760"/>
            <a:ext cx="9036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Gérard PA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Conseiller pour l’Eau et l’Assainissement du Secrétaire Général des Nations Unies (UNSGAB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Président d’AquaFed, la fédération internationale des opérateurs privés de services d’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Variations mondiales de 2000 à fin 2008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66596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D68FEB96-3C29-4489-B6DB-835F275221C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0" y="1000080"/>
          <a:ext cx="9144000" cy="5865840"/>
        </p:xfrm>
        <a:graphic>
          <a:graphicData uri="http://schemas.openxmlformats.org/drawingml/2006/table">
            <a:tbl>
              <a:tblPr/>
              <a:tblGrid>
                <a:gridCol w="1332000"/>
                <a:gridCol w="5681520"/>
                <a:gridCol w="2130480"/>
              </a:tblGrid>
              <a:tr h="73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Population urba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747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permanent à l’eau cour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</a:t>
                      </a: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accès à une source “améliorée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4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7239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collecte de ses eaux usé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non mesur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des toilettes hygiéniques et priv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3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2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Avec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des installations même frus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+5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3" name="ZoneTexte 5"/>
          <p:cNvSpPr/>
          <p:nvPr/>
        </p:nvSpPr>
        <p:spPr>
          <a:xfrm rot="16200000">
            <a:off x="-575280" y="2611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ZoneTexte 6"/>
          <p:cNvSpPr/>
          <p:nvPr/>
        </p:nvSpPr>
        <p:spPr>
          <a:xfrm rot="16200000">
            <a:off x="-880920" y="5127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ZoneTexte 6"/>
          <p:cNvSpPr/>
          <p:nvPr/>
        </p:nvSpPr>
        <p:spPr>
          <a:xfrm>
            <a:off x="4155840" y="1143000"/>
            <a:ext cx="2693880" cy="520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ahoma"/>
                <a:ea typeface="Tahoma"/>
              </a:rPr>
              <a:t>(+ 510 mill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C3230733-B232-4EDA-9B02-D59F12CB198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599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04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TradeGothic"/>
              </a:rPr>
              <a:t>Global trends between 2000 and 2008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4857840" y="60721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AquaFed    </a:t>
            </a:r>
            <a:fld id="{7BAD075C-5EEB-423D-813D-9F47BFEAE2C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928800"/>
                <a:gridCol w="4714920"/>
                <a:gridCol w="1785960"/>
                <a:gridCol w="1714320"/>
              </a:tblGrid>
              <a:tr h="5814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Tendances mondiales entre 2000 et 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Variation de  popula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millions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Urb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Moiti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R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5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perman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à l’eau co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 robi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accès à une source d’eau « améliorée 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épuration de ses usé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collecte des eaux usé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hygiénique priv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= assainissement de bas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"/>
                        </a:rPr>
                        <a:t>Sans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 toilet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radeGothic"/>
                        </a:rPr>
                        <a:t>(défécation en plein ai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c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616" name="ZoneTexte 5"/>
          <p:cNvSpPr/>
          <p:nvPr/>
        </p:nvSpPr>
        <p:spPr>
          <a:xfrm rot="16200000">
            <a:off x="-575280" y="24681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Eau po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ZoneTexte 6"/>
          <p:cNvSpPr/>
          <p:nvPr/>
        </p:nvSpPr>
        <p:spPr>
          <a:xfrm rot="16200000">
            <a:off x="-880920" y="523512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Assainisseme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ZoneTexte 7"/>
          <p:cNvSpPr/>
          <p:nvPr/>
        </p:nvSpPr>
        <p:spPr>
          <a:xfrm>
            <a:off x="6357600" y="17146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ZoneTexte 8"/>
          <p:cNvSpPr/>
          <p:nvPr/>
        </p:nvSpPr>
        <p:spPr>
          <a:xfrm>
            <a:off x="6357600" y="40719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ZoneTexte 9"/>
          <p:cNvSpPr/>
          <p:nvPr/>
        </p:nvSpPr>
        <p:spPr>
          <a:xfrm>
            <a:off x="6357600" y="4786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n mesu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1" name="Connecteur droit avec flèche 11"/>
          <p:cNvCxnSpPr/>
          <p:nvPr/>
        </p:nvCxnSpPr>
        <p:spPr>
          <a:xfrm flipV="1">
            <a:off x="6143400" y="264276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Connecteur droit avec flèche 12"/>
          <p:cNvCxnSpPr/>
          <p:nvPr/>
        </p:nvCxnSpPr>
        <p:spPr>
          <a:xfrm flipV="1">
            <a:off x="6000480" y="5714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Connecteur droit avec flèche 23"/>
          <p:cNvCxnSpPr/>
          <p:nvPr/>
        </p:nvCxnSpPr>
        <p:spPr>
          <a:xfrm flipV="1">
            <a:off x="6000480" y="342864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Connecteur droit avec flèche 24"/>
          <p:cNvCxnSpPr/>
          <p:nvPr/>
        </p:nvCxnSpPr>
        <p:spPr>
          <a:xfrm flipV="1">
            <a:off x="5929200" y="642600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Connecteur droit avec flèche 18"/>
          <p:cNvCxnSpPr/>
          <p:nvPr/>
        </p:nvCxnSpPr>
        <p:spPr>
          <a:xfrm>
            <a:off x="7643520" y="3286080"/>
            <a:ext cx="121500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Connecteur droit avec flèche 19"/>
          <p:cNvCxnSpPr/>
          <p:nvPr/>
        </p:nvCxnSpPr>
        <p:spPr>
          <a:xfrm>
            <a:off x="7715160" y="6354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Connecteur droit avec flèche 20"/>
          <p:cNvCxnSpPr/>
          <p:nvPr/>
        </p:nvCxnSpPr>
        <p:spPr>
          <a:xfrm>
            <a:off x="7715160" y="257184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Connecteur droit avec flèche 21"/>
          <p:cNvCxnSpPr/>
          <p:nvPr/>
        </p:nvCxnSpPr>
        <p:spPr>
          <a:xfrm>
            <a:off x="7715160" y="5643720"/>
            <a:ext cx="121536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ZoneTexte 26"/>
          <p:cNvSpPr/>
          <p:nvPr/>
        </p:nvSpPr>
        <p:spPr>
          <a:xfrm>
            <a:off x="5610240" y="24289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ZoneTexte 27"/>
          <p:cNvSpPr/>
          <p:nvPr/>
        </p:nvSpPr>
        <p:spPr>
          <a:xfrm>
            <a:off x="5569560" y="314316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ZoneTexte 29"/>
          <p:cNvSpPr/>
          <p:nvPr/>
        </p:nvSpPr>
        <p:spPr>
          <a:xfrm>
            <a:off x="5538600" y="54291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+ 1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ZoneTexte 30"/>
          <p:cNvSpPr/>
          <p:nvPr/>
        </p:nvSpPr>
        <p:spPr>
          <a:xfrm>
            <a:off x="5665680" y="621504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+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ZoneTexte 31"/>
          <p:cNvSpPr/>
          <p:nvPr/>
        </p:nvSpPr>
        <p:spPr>
          <a:xfrm>
            <a:off x="7394760" y="34290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8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ZoneTexte 32"/>
          <p:cNvSpPr/>
          <p:nvPr/>
        </p:nvSpPr>
        <p:spPr>
          <a:xfrm>
            <a:off x="7354080" y="2643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ZoneTexte 33"/>
          <p:cNvSpPr/>
          <p:nvPr/>
        </p:nvSpPr>
        <p:spPr>
          <a:xfrm>
            <a:off x="7323480" y="6443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ZoneTexte 34"/>
          <p:cNvSpPr/>
          <p:nvPr/>
        </p:nvSpPr>
        <p:spPr>
          <a:xfrm>
            <a:off x="7354080" y="571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- 6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ZoneTexte 5"/>
          <p:cNvSpPr/>
          <p:nvPr/>
        </p:nvSpPr>
        <p:spPr>
          <a:xfrm>
            <a:off x="7978680" y="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  <a:ea typeface="Arial"/>
              </a:rPr>
              <a:t>Aqua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ce réservé du contenu 2"/>
          <p:cNvSpPr/>
          <p:nvPr/>
        </p:nvSpPr>
        <p:spPr>
          <a:xfrm rot="21150600">
            <a:off x="534960" y="3668760"/>
            <a:ext cx="82152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ahoma"/>
                <a:ea typeface="Tahoma"/>
              </a:rPr>
              <a:t>Les efforts actuels ne sont pas suffisants pour assurer un accès satisfaisant à l’eau potable pour t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4C41-5BA4-4384-A981-2676FCE9140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Espace réservé du contenu 2"/>
          <p:cNvSpPr/>
          <p:nvPr/>
        </p:nvSpPr>
        <p:spPr>
          <a:xfrm>
            <a:off x="468360" y="2060640"/>
            <a:ext cx="6572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ahoma"/>
                <a:ea typeface="Tahoma"/>
              </a:rPr>
              <a:t>L’accès à l’eau régresse dans la moitié urbaine du monde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026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71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ahoma"/>
              </a:rPr>
              <a:t>La course-poursuite entre politiques publiques et urbani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Espace réservé du contenu 2"/>
          <p:cNvSpPr/>
          <p:nvPr/>
        </p:nvSpPr>
        <p:spPr>
          <a:xfrm rot="21081000">
            <a:off x="44280" y="183960"/>
            <a:ext cx="251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U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ZoneTexte 7"/>
          <p:cNvSpPr/>
          <p:nvPr/>
        </p:nvSpPr>
        <p:spPr>
          <a:xfrm>
            <a:off x="237240" y="61498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66"/>
                </a:solidFill>
                <a:latin typeface="Tahoma"/>
                <a:ea typeface="Tahoma"/>
              </a:rPr>
              <a:t>1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Voir communiqué AquaFed du 7 septembre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  <a:ea typeface="Tahoma"/>
              </a:rPr>
              <a:t>et déclaration Ban Ki-Moon du 22 mars 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6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fr-FR" sz="4000" spc="-1" strike="noStrike">
                <a:solidFill>
                  <a:srgbClr val="0033cc"/>
                </a:solidFill>
                <a:latin typeface="Tahoma"/>
                <a:ea typeface="Tahoma"/>
              </a:rPr>
              <a:t>3. Le nouveau Droit  de l’Hom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928800" y="142884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Dro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radeGothic"/>
                <a:ea typeface="Tahoma"/>
              </a:rPr>
              <a:t>les Eléments du 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0278-4B58-44F0-A774-A8BF4EEF5AE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5429160" y="1428840"/>
            <a:ext cx="335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ff"/>
                </a:solidFill>
                <a:latin typeface="Tahoma"/>
              </a:rPr>
              <a:t>Professionn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en-GB" sz="36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e 33"/>
          <p:cNvGrpSpPr/>
          <p:nvPr/>
        </p:nvGrpSpPr>
        <p:grpSpPr>
          <a:xfrm>
            <a:off x="285840" y="2357280"/>
            <a:ext cx="7744680" cy="500400"/>
            <a:chOff x="285840" y="2357280"/>
            <a:chExt cx="7744680" cy="500400"/>
          </a:xfrm>
        </p:grpSpPr>
        <p:sp>
          <p:nvSpPr>
            <p:cNvPr id="651" name="Rectangle à coins arrondis 10"/>
            <p:cNvSpPr/>
            <p:nvPr/>
          </p:nvSpPr>
          <p:spPr>
            <a:xfrm>
              <a:off x="285840" y="2357280"/>
              <a:ext cx="2571840" cy="50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po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2" name="Groupe 26"/>
            <p:cNvGrpSpPr/>
            <p:nvPr/>
          </p:nvGrpSpPr>
          <p:grpSpPr>
            <a:xfrm>
              <a:off x="3571560" y="2357280"/>
              <a:ext cx="4458960" cy="459720"/>
              <a:chOff x="3571560" y="2357280"/>
              <a:chExt cx="4458960" cy="459720"/>
            </a:xfrm>
          </p:grpSpPr>
          <p:sp>
            <p:nvSpPr>
              <p:cNvPr id="653" name="ZoneTexte 13"/>
              <p:cNvSpPr/>
              <p:nvPr/>
            </p:nvSpPr>
            <p:spPr>
              <a:xfrm>
                <a:off x="4972320" y="2357280"/>
                <a:ext cx="30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Norme de potabilité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Flèche droite 19"/>
              <p:cNvSpPr/>
              <p:nvPr/>
            </p:nvSpPr>
            <p:spPr>
              <a:xfrm>
                <a:off x="3571560" y="25002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Groupe 34"/>
          <p:cNvGrpSpPr/>
          <p:nvPr/>
        </p:nvGrpSpPr>
        <p:grpSpPr>
          <a:xfrm>
            <a:off x="285840" y="3071880"/>
            <a:ext cx="7027920" cy="500040"/>
            <a:chOff x="285840" y="3071880"/>
            <a:chExt cx="7027920" cy="500040"/>
          </a:xfrm>
        </p:grpSpPr>
        <p:sp>
          <p:nvSpPr>
            <p:cNvPr id="656" name="Rectangle à coins arrondis 6"/>
            <p:cNvSpPr/>
            <p:nvPr/>
          </p:nvSpPr>
          <p:spPr>
            <a:xfrm>
              <a:off x="285840" y="3071880"/>
              <a:ext cx="278604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pt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7" name="Groupe 27"/>
            <p:cNvGrpSpPr/>
            <p:nvPr/>
          </p:nvGrpSpPr>
          <p:grpSpPr>
            <a:xfrm>
              <a:off x="3571560" y="3071880"/>
              <a:ext cx="3742200" cy="459720"/>
              <a:chOff x="3571560" y="3071880"/>
              <a:chExt cx="3742200" cy="459720"/>
            </a:xfrm>
          </p:grpSpPr>
          <p:sp>
            <p:nvSpPr>
              <p:cNvPr id="658" name="ZoneTexte 14"/>
              <p:cNvSpPr/>
              <p:nvPr/>
            </p:nvSpPr>
            <p:spPr>
              <a:xfrm>
                <a:off x="4979520" y="3071880"/>
                <a:ext cx="233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Couleur, odeu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Flèche droite 21"/>
              <p:cNvSpPr/>
              <p:nvPr/>
            </p:nvSpPr>
            <p:spPr>
              <a:xfrm>
                <a:off x="3571560" y="3214800"/>
                <a:ext cx="1428480" cy="214560"/>
              </a:xfrm>
              <a:prstGeom prst="rightArrow">
                <a:avLst>
                  <a:gd name="adj1" fmla="val 50000"/>
                  <a:gd name="adj2" fmla="val 4993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Groupe 35"/>
          <p:cNvGrpSpPr/>
          <p:nvPr/>
        </p:nvGrpSpPr>
        <p:grpSpPr>
          <a:xfrm>
            <a:off x="285840" y="3786120"/>
            <a:ext cx="8564040" cy="500040"/>
            <a:chOff x="285840" y="3786120"/>
            <a:chExt cx="8564040" cy="500040"/>
          </a:xfrm>
        </p:grpSpPr>
        <p:sp>
          <p:nvSpPr>
            <p:cNvPr id="661" name="Rectangle à coins arrondis 9"/>
            <p:cNvSpPr/>
            <p:nvPr/>
          </p:nvSpPr>
          <p:spPr>
            <a:xfrm>
              <a:off x="285840" y="3786120"/>
              <a:ext cx="357192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Accessible, disponi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Groupe 28"/>
            <p:cNvGrpSpPr/>
            <p:nvPr/>
          </p:nvGrpSpPr>
          <p:grpSpPr>
            <a:xfrm>
              <a:off x="4072320" y="3786120"/>
              <a:ext cx="4777560" cy="459720"/>
              <a:chOff x="4072320" y="3786120"/>
              <a:chExt cx="4777560" cy="459720"/>
            </a:xfrm>
          </p:grpSpPr>
          <p:sp>
            <p:nvSpPr>
              <p:cNvPr id="663" name="ZoneTexte 18"/>
              <p:cNvSpPr/>
              <p:nvPr/>
            </p:nvSpPr>
            <p:spPr>
              <a:xfrm>
                <a:off x="4991760" y="3786120"/>
                <a:ext cx="385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24/7, distance point d’ea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Flèche droite 22"/>
              <p:cNvSpPr/>
              <p:nvPr/>
            </p:nvSpPr>
            <p:spPr>
              <a:xfrm>
                <a:off x="4072320" y="3929040"/>
                <a:ext cx="928440" cy="214560"/>
              </a:xfrm>
              <a:prstGeom prst="rightArrow">
                <a:avLst>
                  <a:gd name="adj1" fmla="val 50000"/>
                  <a:gd name="adj2" fmla="val 49923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e 36"/>
          <p:cNvGrpSpPr/>
          <p:nvPr/>
        </p:nvGrpSpPr>
        <p:grpSpPr>
          <a:xfrm>
            <a:off x="285840" y="4500720"/>
            <a:ext cx="7414200" cy="531000"/>
            <a:chOff x="285840" y="4500720"/>
            <a:chExt cx="7414200" cy="531000"/>
          </a:xfrm>
        </p:grpSpPr>
        <p:sp>
          <p:nvSpPr>
            <p:cNvPr id="666" name="Rectangle à coins arrondis 7"/>
            <p:cNvSpPr/>
            <p:nvPr/>
          </p:nvSpPr>
          <p:spPr>
            <a:xfrm>
              <a:off x="285840" y="450072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d’un coût abord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Groupe 29"/>
            <p:cNvGrpSpPr/>
            <p:nvPr/>
          </p:nvGrpSpPr>
          <p:grpSpPr>
            <a:xfrm>
              <a:off x="4071960" y="4572000"/>
              <a:ext cx="3628080" cy="459720"/>
              <a:chOff x="4071960" y="4572000"/>
              <a:chExt cx="3628080" cy="459720"/>
            </a:xfrm>
          </p:grpSpPr>
          <p:sp>
            <p:nvSpPr>
              <p:cNvPr id="668" name="ZoneTexte 15"/>
              <p:cNvSpPr/>
              <p:nvPr/>
            </p:nvSpPr>
            <p:spPr>
              <a:xfrm>
                <a:off x="4993920" y="4572000"/>
                <a:ext cx="270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Tarification, aid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lèche droite 23"/>
              <p:cNvSpPr/>
              <p:nvPr/>
            </p:nvSpPr>
            <p:spPr>
              <a:xfrm>
                <a:off x="4071960" y="46432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0" name="Groupe 37"/>
          <p:cNvGrpSpPr/>
          <p:nvPr/>
        </p:nvGrpSpPr>
        <p:grpSpPr>
          <a:xfrm>
            <a:off x="285840" y="5214960"/>
            <a:ext cx="8179560" cy="500040"/>
            <a:chOff x="285840" y="5214960"/>
            <a:chExt cx="8179560" cy="500040"/>
          </a:xfrm>
        </p:grpSpPr>
        <p:sp>
          <p:nvSpPr>
            <p:cNvPr id="671" name="Rectangle à coins arrondis 11"/>
            <p:cNvSpPr/>
            <p:nvPr/>
          </p:nvSpPr>
          <p:spPr>
            <a:xfrm>
              <a:off x="285840" y="5214960"/>
              <a:ext cx="364320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en quantité suffisan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2" name="Groupe 30"/>
            <p:cNvGrpSpPr/>
            <p:nvPr/>
          </p:nvGrpSpPr>
          <p:grpSpPr>
            <a:xfrm>
              <a:off x="4071960" y="5214960"/>
              <a:ext cx="4393440" cy="459720"/>
              <a:chOff x="4071960" y="5214960"/>
              <a:chExt cx="4393440" cy="459720"/>
            </a:xfrm>
          </p:grpSpPr>
          <p:sp>
            <p:nvSpPr>
              <p:cNvPr id="673" name="ZoneTexte 16"/>
              <p:cNvSpPr/>
              <p:nvPr/>
            </p:nvSpPr>
            <p:spPr>
              <a:xfrm>
                <a:off x="5047560" y="5214960"/>
                <a:ext cx="34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Pression minimale, e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lèche droite 24"/>
              <p:cNvSpPr/>
              <p:nvPr/>
            </p:nvSpPr>
            <p:spPr>
              <a:xfrm>
                <a:off x="4071960" y="5357880"/>
                <a:ext cx="1000080" cy="214560"/>
              </a:xfrm>
              <a:prstGeom prst="rightArrow">
                <a:avLst>
                  <a:gd name="adj1" fmla="val 50000"/>
                  <a:gd name="adj2" fmla="val 49934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Groupe 38"/>
          <p:cNvGrpSpPr/>
          <p:nvPr/>
        </p:nvGrpSpPr>
        <p:grpSpPr>
          <a:xfrm>
            <a:off x="285840" y="5857920"/>
            <a:ext cx="7435800" cy="825480"/>
            <a:chOff x="285840" y="5857920"/>
            <a:chExt cx="7435800" cy="825480"/>
          </a:xfrm>
        </p:grpSpPr>
        <p:sp>
          <p:nvSpPr>
            <p:cNvPr id="676" name="Rectangle à coins arrondis 4"/>
            <p:cNvSpPr/>
            <p:nvPr/>
          </p:nvSpPr>
          <p:spPr>
            <a:xfrm>
              <a:off x="285840" y="5929200"/>
              <a:ext cx="3500280" cy="50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6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sans discrimin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7" name="Groupe 31"/>
            <p:cNvGrpSpPr/>
            <p:nvPr/>
          </p:nvGrpSpPr>
          <p:grpSpPr>
            <a:xfrm>
              <a:off x="4072320" y="5857920"/>
              <a:ext cx="3649320" cy="825480"/>
              <a:chOff x="4072320" y="5857920"/>
              <a:chExt cx="3649320" cy="825480"/>
            </a:xfrm>
          </p:grpSpPr>
          <p:sp>
            <p:nvSpPr>
              <p:cNvPr id="678" name="ZoneTexte 17"/>
              <p:cNvSpPr/>
              <p:nvPr/>
            </p:nvSpPr>
            <p:spPr>
              <a:xfrm>
                <a:off x="5099400" y="5857920"/>
                <a:ext cx="26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Égalité devant l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  <a:ea typeface="Tahoma"/>
                  </a:rPr>
                  <a:t>service publi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Flèche droite 25"/>
              <p:cNvSpPr/>
              <p:nvPr/>
            </p:nvSpPr>
            <p:spPr>
              <a:xfrm>
                <a:off x="4072320" y="6071760"/>
                <a:ext cx="1000080" cy="213840"/>
              </a:xfrm>
              <a:prstGeom prst="rightArrow">
                <a:avLst>
                  <a:gd name="adj1" fmla="val 50000"/>
                  <a:gd name="adj2" fmla="val 50102"/>
                </a:avLst>
              </a:prstGeom>
              <a:solidFill>
                <a:srgbClr val="cc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" name="Double flèche horizontale 32"/>
          <p:cNvSpPr/>
          <p:nvPr/>
        </p:nvSpPr>
        <p:spPr>
          <a:xfrm>
            <a:off x="3000240" y="1571760"/>
            <a:ext cx="2214720" cy="35712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Coûts abordables: attention au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effets des 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A4A-C454-4DC5-BD21-F4947A1C31F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e 9"/>
          <p:cNvGrpSpPr/>
          <p:nvPr/>
        </p:nvGrpSpPr>
        <p:grpSpPr>
          <a:xfrm>
            <a:off x="500040" y="3143160"/>
            <a:ext cx="8143920" cy="2428920"/>
            <a:chOff x="500040" y="3143160"/>
            <a:chExt cx="8143920" cy="2428920"/>
          </a:xfrm>
        </p:grpSpPr>
        <p:sp>
          <p:nvSpPr>
            <p:cNvPr id="684" name="Rectangle à coins arrondis 4"/>
            <p:cNvSpPr/>
            <p:nvPr/>
          </p:nvSpPr>
          <p:spPr>
            <a:xfrm>
              <a:off x="500040" y="3143160"/>
              <a:ext cx="314316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à coins arrondis 6"/>
            <p:cNvSpPr/>
            <p:nvPr/>
          </p:nvSpPr>
          <p:spPr>
            <a:xfrm>
              <a:off x="5429160" y="3143160"/>
              <a:ext cx="3214800" cy="24289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Non bénéficiair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c00000"/>
                  </a:solidFill>
                  <a:latin typeface="TradeGothic"/>
                </a:rPr>
                <a:t>du service publ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Double flèche horizontale 7"/>
            <p:cNvSpPr/>
            <p:nvPr/>
          </p:nvSpPr>
          <p:spPr>
            <a:xfrm>
              <a:off x="3786120" y="4214880"/>
              <a:ext cx="1500120" cy="714240"/>
            </a:xfrm>
            <a:prstGeom prst="leftRightArrow">
              <a:avLst>
                <a:gd name="adj1" fmla="val 50000"/>
                <a:gd name="adj2" fmla="val 5000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ZoneTexte 8"/>
          <p:cNvSpPr/>
          <p:nvPr/>
        </p:nvSpPr>
        <p:spPr>
          <a:xfrm>
            <a:off x="556920" y="185724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Subven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lèche vers le bas 10"/>
          <p:cNvSpPr/>
          <p:nvPr/>
        </p:nvSpPr>
        <p:spPr>
          <a:xfrm>
            <a:off x="1500120" y="2571840"/>
            <a:ext cx="100008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ZoneTexte 11"/>
          <p:cNvSpPr/>
          <p:nvPr/>
        </p:nvSpPr>
        <p:spPr>
          <a:xfrm>
            <a:off x="5674680" y="5657760"/>
            <a:ext cx="28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Coût 10 fo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plus élev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Espace réservé du numéro de diapositive 5"/>
          <p:cNvSpPr/>
          <p:nvPr/>
        </p:nvSpPr>
        <p:spPr>
          <a:xfrm>
            <a:off x="8429760" y="6400800"/>
            <a:ext cx="71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71F8-027F-4E08-A0F6-629FA6CDE3C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071600" y="-360"/>
            <a:ext cx="507204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TradeGothic"/>
              </a:rPr>
              <a:t>Coût abordable: </a:t>
            </a:r>
            <a:br>
              <a:rPr sz="4000"/>
            </a:b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bien vérifier l’impact des subventions pour les plus pauvre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3929040" y="3143160"/>
            <a:ext cx="47624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mécanismes non ciblés comme les tranches tarifaires croissantes peuvent bénéficier davantage aux riches qu’aux pauv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Groupe 15"/>
          <p:cNvGrpSpPr/>
          <p:nvPr/>
        </p:nvGrpSpPr>
        <p:grpSpPr>
          <a:xfrm>
            <a:off x="0" y="0"/>
            <a:ext cx="3527280" cy="6883560"/>
            <a:chOff x="0" y="0"/>
            <a:chExt cx="3527280" cy="6883560"/>
          </a:xfrm>
        </p:grpSpPr>
        <p:grpSp>
          <p:nvGrpSpPr>
            <p:cNvPr id="694" name="Groupe 14"/>
            <p:cNvGrpSpPr/>
            <p:nvPr/>
          </p:nvGrpSpPr>
          <p:grpSpPr>
            <a:xfrm>
              <a:off x="0" y="0"/>
              <a:ext cx="3527280" cy="6883560"/>
              <a:chOff x="0" y="0"/>
              <a:chExt cx="3527280" cy="6883560"/>
            </a:xfrm>
          </p:grpSpPr>
          <p:pic>
            <p:nvPicPr>
              <p:cNvPr id="69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527280" cy="688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480" y="3286080"/>
                <a:ext cx="2866680" cy="239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" y="1143000"/>
                <a:ext cx="2841480" cy="239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37600" y="0"/>
                <a:ext cx="2858400" cy="145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9" name="Picture 9" descr=""/>
            <p:cNvPicPr/>
            <p:nvPr/>
          </p:nvPicPr>
          <p:blipFill>
            <a:blip r:embed="rId5"/>
            <a:stretch/>
          </p:blipFill>
          <p:spPr>
            <a:xfrm>
              <a:off x="642600" y="5643720"/>
              <a:ext cx="25524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10" descr=""/>
            <p:cNvPicPr/>
            <p:nvPr/>
          </p:nvPicPr>
          <p:blipFill>
            <a:blip r:embed="rId6"/>
            <a:stretch/>
          </p:blipFill>
          <p:spPr>
            <a:xfrm>
              <a:off x="108000" y="6678360"/>
              <a:ext cx="160308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1" name="Groupe 8"/>
          <p:cNvGrpSpPr/>
          <p:nvPr/>
        </p:nvGrpSpPr>
        <p:grpSpPr>
          <a:xfrm>
            <a:off x="2142360" y="1285200"/>
            <a:ext cx="1715040" cy="2143440"/>
            <a:chOff x="2142360" y="1285200"/>
            <a:chExt cx="1715040" cy="2143440"/>
          </a:xfrm>
        </p:grpSpPr>
        <p:cxnSp>
          <p:nvCxnSpPr>
            <p:cNvPr id="702" name="Connecteur droit avec flèche 7"/>
            <p:cNvCxnSpPr/>
            <p:nvPr/>
          </p:nvCxnSpPr>
          <p:spPr>
            <a:xfrm flipH="1" flipV="1">
              <a:off x="2856960" y="1285200"/>
              <a:ext cx="1000800" cy="214380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arrow" w="med"/>
            </a:ln>
          </p:spPr>
        </p:cxnSp>
        <p:cxnSp>
          <p:nvCxnSpPr>
            <p:cNvPr id="703" name="Connecteur droit avec flèche 8"/>
            <p:cNvCxnSpPr/>
            <p:nvPr/>
          </p:nvCxnSpPr>
          <p:spPr>
            <a:xfrm flipH="1" flipV="1">
              <a:off x="2142360" y="1713960"/>
              <a:ext cx="1715400" cy="164376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arrow" w="med"/>
            </a:ln>
          </p:spPr>
        </p:cxnSp>
      </p:grpSp>
      <p:sp>
        <p:nvSpPr>
          <p:cNvPr id="704" name="Rectangle 4"/>
          <p:cNvSpPr/>
          <p:nvPr/>
        </p:nvSpPr>
        <p:spPr>
          <a:xfrm>
            <a:off x="3500280" y="6215040"/>
            <a:ext cx="2928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ource: UN 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evelopment Report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Freins juridiques / poli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 </a:t>
            </a:r>
            <a:r>
              <a:rPr b="0" lang="fr-FR" sz="3600" spc="-1" strike="noStrike">
                <a:solidFill>
                  <a:srgbClr val="cc0000"/>
                </a:solidFill>
                <a:latin typeface="TradeGothic"/>
                <a:ea typeface="Tahoma"/>
              </a:rPr>
              <a:t>au raccordement des bidonvil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Espace réservé du numéro de diapositive 5"/>
          <p:cNvSpPr/>
          <p:nvPr/>
        </p:nvSpPr>
        <p:spPr>
          <a:xfrm>
            <a:off x="8572680" y="6400800"/>
            <a:ext cx="57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A974-816D-40F2-AC4E-AD1717D4636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à coins arrondis 4"/>
          <p:cNvSpPr/>
          <p:nvPr/>
        </p:nvSpPr>
        <p:spPr>
          <a:xfrm>
            <a:off x="857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à l’eau pota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à coins arrondis 6"/>
          <p:cNvSpPr/>
          <p:nvPr/>
        </p:nvSpPr>
        <p:spPr>
          <a:xfrm>
            <a:off x="5429160" y="3000240"/>
            <a:ext cx="2786040" cy="242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c00000"/>
                </a:solidFill>
                <a:latin typeface="TradeGothic"/>
              </a:rPr>
              <a:t>droit de proprié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Double flèche horizontale 7"/>
          <p:cNvSpPr/>
          <p:nvPr/>
        </p:nvSpPr>
        <p:spPr>
          <a:xfrm>
            <a:off x="3786120" y="4071960"/>
            <a:ext cx="1500120" cy="71424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B20-C44F-48E0-BE98-70E0CD4BB0B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3571920" y="15840"/>
            <a:ext cx="5572080" cy="6842160"/>
          </a:xfrm>
          <a:prstGeom prst="rect">
            <a:avLst/>
          </a:prstGeom>
          <a:ln w="0">
            <a:noFill/>
          </a:ln>
        </p:spPr>
      </p:pic>
      <p:sp>
        <p:nvSpPr>
          <p:cNvPr id="712" name="ZoneTexte 6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Tahoma"/>
                <a:ea typeface="Tahoma"/>
              </a:rPr>
              <a:t>4. Vers des politiques plus ambitie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3" name="Picture 6" descr=""/>
          <p:cNvPicPr/>
          <p:nvPr/>
        </p:nvPicPr>
        <p:blipFill>
          <a:blip r:embed="rId2"/>
          <a:stretch/>
        </p:blipFill>
        <p:spPr>
          <a:xfrm>
            <a:off x="0" y="2781360"/>
            <a:ext cx="49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5B1C-B947-4B63-8F4F-DD7F4905E20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  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radeGothic"/>
              </a:rPr>
              <a:t>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Conseil consultatif pour l’Eau et l’Assainissement </a:t>
            </a:r>
            <a:br>
              <a:rPr sz="2800"/>
            </a:b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2800" spc="-1" strike="noStrike">
                <a:solidFill>
                  <a:srgbClr val="0033cc"/>
                </a:solidFill>
                <a:latin typeface="TradeGothic"/>
              </a:rPr>
              <a:t>        du Secrétaire général des Nations Unies</a:t>
            </a:r>
            <a:br>
              <a:rPr sz="2800"/>
            </a:b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       “</a:t>
            </a:r>
            <a:r>
              <a:rPr b="1" lang="fr-FR" sz="3200" spc="-1" strike="noStrike">
                <a:solidFill>
                  <a:srgbClr val="0033cc"/>
                </a:solidFill>
                <a:latin typeface="TradeGothic"/>
              </a:rPr>
              <a:t>UNSGAB</a:t>
            </a:r>
            <a:r>
              <a:rPr b="0" lang="fr-FR" sz="3200" spc="-1" strike="noStrike">
                <a:solidFill>
                  <a:srgbClr val="0033cc"/>
                </a:solidFill>
                <a:latin typeface="TradeGothic"/>
              </a:rPr>
              <a:t>”</a:t>
            </a:r>
            <a:endParaRPr b="0" lang="en-US" sz="32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0040" y="2428920"/>
            <a:ext cx="8136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Conseil indépendant de haut niveau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Tahoma"/>
                <a:ea typeface="Tahoma"/>
              </a:rPr>
              <a:t>Créé par Kofi Annan le 22 mars 2004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pour stimuler l’action des décideurs politiques en matière d’accès à l’eau potable et à l’assainissement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22 membres en provenance de tous les continents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203640" y="6308640"/>
            <a:ext cx="302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www.unsgab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UN logo blue"/>
          <p:cNvPicPr/>
          <p:nvPr/>
        </p:nvPicPr>
        <p:blipFill>
          <a:blip r:embed="rId1"/>
          <a:stretch/>
        </p:blipFill>
        <p:spPr>
          <a:xfrm>
            <a:off x="214200" y="714240"/>
            <a:ext cx="11606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Quels objectifs mondiaux?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sources amélioré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 ? 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OMD 2015 pour toilettes privativ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</a:rPr>
              <a:t>Après 2015:  toilettes + eaux usées?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6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10D9-E8A0-4E94-82D4-89A49519B91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10920" y="1413000"/>
            <a:ext cx="7848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Eau potable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la moitié de la population mondiale utilise une eau de qualité douteuse.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Davantage de personnes ont leur droit à l’eau potable non satisfai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19" name="Rectangle 1"/>
          <p:cNvSpPr/>
          <p:nvPr/>
        </p:nvSpPr>
        <p:spPr>
          <a:xfrm>
            <a:off x="395280" y="6023520"/>
            <a:ext cx="77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Source: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Les besoins en eau potable dans le monde sont sous-estimés :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 </a:t>
            </a:r>
            <a:r>
              <a:rPr b="1" i="1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des milliards de personnes sont concernées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Calibri"/>
              </a:rPr>
              <a:t>Gérard Payen, 2011 in </a:t>
            </a:r>
            <a:r>
              <a:rPr b="0" i="1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Le Droit à l’eau potable et à l’assainissement, sa mise en œuvre en Europe</a:t>
            </a:r>
            <a:r>
              <a:rPr b="0" lang="fr-FR" sz="1200" spc="-1" strike="noStrike">
                <a:solidFill>
                  <a:srgbClr val="000000"/>
                </a:solidFill>
                <a:latin typeface="TradeGothic"/>
                <a:ea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adeGothic"/>
              </a:rPr>
              <a:t>www.aquafed.org/pop_up_4billion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radeGothic"/>
              </a:rPr>
              <a:t>Des besoins qui justifient plus d’ambition</a:t>
            </a:r>
            <a:endParaRPr b="0" lang="en-US" sz="36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10920" y="141264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TradeGothic"/>
              </a:rPr>
              <a:t>Assainissement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Le nombre de personnes n’ayant pas accès à des toilettes privatives correctes ne baisse pas 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rade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radeGothic"/>
              </a:rPr>
              <a:t>Environ 80% des eaux usées par l’homme sont rejetées dans la nature sans dépollution</a:t>
            </a:r>
            <a:endParaRPr b="0" lang="en-US" sz="3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2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47C-63DA-4DA7-813E-CE99C5DB2F1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8964-3CE2-4CFD-82BD-EDCC4F631A3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0" y="2406600"/>
            <a:ext cx="5931000" cy="4451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" descr=""/>
          <p:cNvPicPr/>
          <p:nvPr/>
        </p:nvPicPr>
        <p:blipFill>
          <a:blip r:embed="rId2"/>
          <a:stretch/>
        </p:blipFill>
        <p:spPr>
          <a:xfrm rot="20911800">
            <a:off x="4834080" y="610920"/>
            <a:ext cx="3886200" cy="5919840"/>
          </a:xfrm>
          <a:prstGeom prst="rect">
            <a:avLst/>
          </a:prstGeom>
          <a:ln w="0">
            <a:noFill/>
          </a:ln>
        </p:spPr>
      </p:pic>
      <p:sp>
        <p:nvSpPr>
          <p:cNvPr id="727" name="ZoneTexte 3"/>
          <p:cNvSpPr/>
          <p:nvPr/>
        </p:nvSpPr>
        <p:spPr>
          <a:xfrm>
            <a:off x="755640" y="5493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Merci pour votre atten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Espace réservé du numéro de diapositive 1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D932-F7F9-487D-B693-3F58972CD1E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13"/>
          <p:cNvSpPr/>
          <p:nvPr/>
        </p:nvSpPr>
        <p:spPr>
          <a:xfrm>
            <a:off x="405000" y="65214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Photo G Pay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ZoneTexte 3"/>
          <p:cNvSpPr/>
          <p:nvPr/>
        </p:nvSpPr>
        <p:spPr>
          <a:xfrm>
            <a:off x="2050920" y="2349360"/>
            <a:ext cx="48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unsgab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  <a:ea typeface="Tahoma"/>
              </a:rPr>
              <a:t>www.aquafed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132000" y="551664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radeGothic"/>
              </a:rPr>
              <a:t>Ban Ki-Moon, 22 mars 2011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365040" indent="-365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07F2-36B3-4C4B-B56A-2EEE41BEF10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ZoneTexte 4"/>
          <p:cNvSpPr/>
          <p:nvPr/>
        </p:nvSpPr>
        <p:spPr>
          <a:xfrm>
            <a:off x="0" y="0"/>
            <a:ext cx="914400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    </a:t>
            </a: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« L’Eau pour les Villes 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ahoma"/>
                <a:ea typeface="Tahoma"/>
              </a:rPr>
              <a:t>Thème de la Journée mondiale de l’Eau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à coins arrondis 7"/>
          <p:cNvSpPr/>
          <p:nvPr/>
        </p:nvSpPr>
        <p:spPr>
          <a:xfrm>
            <a:off x="611280" y="2060640"/>
            <a:ext cx="7848360" cy="33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« La crise de l’eau qui touche 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zones urbaines tient davant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des problèmes de gouvernan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’insuffisance des politiques 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- à la mauvaise ges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ahoma"/>
              </a:rPr>
              <a:t>qu’à des problèmes de pénurie.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radeGothic"/>
              </a:rPr>
              <a:t>Le Droit à l’eau pour les citadins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5640" y="2565000"/>
            <a:ext cx="756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ynamiques urbain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Développement de l’accès à l’eau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Le nouveau Droit de l’Homme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  <a:p>
            <a:pPr marL="504000" indent="-504000">
              <a:spcBef>
                <a:spcPts val="1800"/>
              </a:spcBef>
              <a:buClr>
                <a:srgbClr val="7f7f7f"/>
              </a:buClr>
              <a:buFont typeface="Trade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f7f7f"/>
                </a:solidFill>
                <a:latin typeface="TradeGothic"/>
              </a:rPr>
              <a:t>Vers des politiques plus ambitieuses</a:t>
            </a:r>
            <a:endParaRPr b="0" lang="en-US" sz="32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solidFill>
            <a:srgbClr val="f9d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2623-BB64-4B20-9195-9AC365AA098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à coins arrondis 4"/>
          <p:cNvSpPr/>
          <p:nvPr/>
        </p:nvSpPr>
        <p:spPr>
          <a:xfrm>
            <a:off x="250920" y="2565360"/>
            <a:ext cx="82818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radeGothic"/>
                <a:ea typeface="Arial"/>
              </a:rPr>
              <a:t>1.  Dynamiques urba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1"/>
          <p:cNvSpPr/>
          <p:nvPr/>
        </p:nvSpPr>
        <p:spPr>
          <a:xfrm>
            <a:off x="707220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861-04C1-4C1D-817D-F58B21658BB6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5459400" y="1800360"/>
            <a:ext cx="3684600" cy="5057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0" y="773280"/>
            <a:ext cx="5483160" cy="60847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à coins arrondis 5"/>
          <p:cNvSpPr/>
          <p:nvPr/>
        </p:nvSpPr>
        <p:spPr>
          <a:xfrm>
            <a:off x="0" y="0"/>
            <a:ext cx="9144000" cy="18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ans les pays en développ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Tahoma"/>
                <a:ea typeface="Tahoma"/>
              </a:rPr>
              <a:t>33% 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des citadins habitent des bidon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ZoneTexte 11"/>
          <p:cNvSpPr/>
          <p:nvPr/>
        </p:nvSpPr>
        <p:spPr>
          <a:xfrm>
            <a:off x="122760" y="61437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Groupe 8"/>
          <p:cNvGrpSpPr/>
          <p:nvPr/>
        </p:nvGrpSpPr>
        <p:grpSpPr>
          <a:xfrm>
            <a:off x="1619280" y="1197000"/>
            <a:ext cx="6854400" cy="581400"/>
            <a:chOff x="1619280" y="1197000"/>
            <a:chExt cx="6854400" cy="581400"/>
          </a:xfrm>
        </p:grpSpPr>
        <p:sp>
          <p:nvSpPr>
            <p:cNvPr id="561" name="Flèche droite 6"/>
            <p:cNvSpPr/>
            <p:nvPr/>
          </p:nvSpPr>
          <p:spPr>
            <a:xfrm>
              <a:off x="1619280" y="1340640"/>
              <a:ext cx="1728000" cy="287640"/>
            </a:xfrm>
            <a:prstGeom prst="rightArrow">
              <a:avLst>
                <a:gd name="adj1" fmla="val 50000"/>
                <a:gd name="adj2" fmla="val 5006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ZoneTexte 7"/>
            <p:cNvSpPr/>
            <p:nvPr/>
          </p:nvSpPr>
          <p:spPr>
            <a:xfrm>
              <a:off x="3285000" y="1197000"/>
              <a:ext cx="518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6600"/>
                  </a:solidFill>
                  <a:latin typeface="TradeGothic"/>
                </a:rPr>
                <a:t>Leur nombre est croissa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64480"/>
          </a:xfrm>
          <a:prstGeom prst="rect">
            <a:avLst/>
          </a:prstGeom>
          <a:ln w="0">
            <a:noFill/>
          </a:ln>
        </p:spPr>
      </p:pic>
      <p:sp>
        <p:nvSpPr>
          <p:cNvPr id="564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D90-4CF8-419F-81D0-20DD989B7C8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Groupe 8" descr=""/>
          <p:cNvPicPr/>
          <p:nvPr/>
        </p:nvPicPr>
        <p:blipFill>
          <a:blip r:embed="rId2"/>
          <a:stretch/>
        </p:blipFill>
        <p:spPr>
          <a:xfrm>
            <a:off x="738360" y="1036800"/>
            <a:ext cx="5394240" cy="2035080"/>
          </a:xfrm>
          <a:prstGeom prst="rect">
            <a:avLst/>
          </a:prstGeom>
          <a:ln w="0">
            <a:noFill/>
          </a:ln>
        </p:spPr>
      </p:pic>
      <p:sp>
        <p:nvSpPr>
          <p:cNvPr id="566" name="ZoneTexte 11"/>
          <p:cNvSpPr/>
          <p:nvPr/>
        </p:nvSpPr>
        <p:spPr>
          <a:xfrm>
            <a:off x="-500760" y="614376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Tahoma"/>
                <a:ea typeface="Tahoma"/>
              </a:rPr>
              <a:t>Photo UN-Habit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Espace réservé du numéro de diapositive 3"/>
          <p:cNvSpPr/>
          <p:nvPr/>
        </p:nvSpPr>
        <p:spPr>
          <a:xfrm>
            <a:off x="324000" y="6165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14E8-6F05-4B20-8FCA-83BB3669E85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2" descr="C:\Documents and Settings\gpayen\Mes documents\Mes images\AqF\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6"/>
          <p:cNvSpPr/>
          <p:nvPr/>
        </p:nvSpPr>
        <p:spPr>
          <a:xfrm>
            <a:off x="714240" y="1571760"/>
            <a:ext cx="557244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ahoma"/>
                <a:ea typeface="Tahoma"/>
              </a:rPr>
              <a:t>Prévisions de pop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World Urbanization Prospects, the 2009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O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00040" y="0"/>
            <a:ext cx="1214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  <a:ea typeface="Tahoma"/>
              </a:rPr>
              <a:t>mill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Ellipse 9"/>
          <p:cNvSpPr/>
          <p:nvPr/>
        </p:nvSpPr>
        <p:spPr>
          <a:xfrm rot="19086000">
            <a:off x="4917960" y="1495080"/>
            <a:ext cx="4846680" cy="96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3" descr=""/>
          <p:cNvPicPr/>
          <p:nvPr/>
        </p:nvPicPr>
        <p:blipFill>
          <a:blip r:embed="rId1"/>
          <a:stretch/>
        </p:blipFill>
        <p:spPr>
          <a:xfrm>
            <a:off x="0" y="-58680"/>
            <a:ext cx="9229680" cy="69166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e 13"/>
          <p:cNvGrpSpPr/>
          <p:nvPr/>
        </p:nvGrpSpPr>
        <p:grpSpPr>
          <a:xfrm>
            <a:off x="468360" y="1556640"/>
            <a:ext cx="4032360" cy="4320000"/>
            <a:chOff x="468360" y="1556640"/>
            <a:chExt cx="4032360" cy="4320000"/>
          </a:xfrm>
        </p:grpSpPr>
        <p:sp>
          <p:nvSpPr>
            <p:cNvPr id="574" name="Rectangle à coins arrondis 2"/>
            <p:cNvSpPr/>
            <p:nvPr/>
          </p:nvSpPr>
          <p:spPr>
            <a:xfrm>
              <a:off x="468360" y="3141000"/>
              <a:ext cx="2880360" cy="1080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éveloppement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ifi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5" name="Connecteur droit avec flèche 5"/>
            <p:cNvCxnSpPr/>
            <p:nvPr/>
          </p:nvCxnSpPr>
          <p:spPr>
            <a:xfrm flipH="1" flipV="1">
              <a:off x="972360" y="1556640"/>
              <a:ext cx="504360" cy="1584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  <p:cxnSp>
          <p:nvCxnSpPr>
            <p:cNvPr id="576" name="Connecteur droit avec flèche 6"/>
            <p:cNvCxnSpPr/>
            <p:nvPr/>
          </p:nvCxnSpPr>
          <p:spPr>
            <a:xfrm>
              <a:off x="2196000" y="4220640"/>
              <a:ext cx="2305080" cy="1656360"/>
            </a:xfrm>
            <a:prstGeom prst="straightConnector1">
              <a:avLst/>
            </a:prstGeom>
            <a:ln w="38160">
              <a:solidFill>
                <a:srgbClr val="92d050"/>
              </a:solidFill>
              <a:miter/>
              <a:tailEnd len="med" type="arrow" w="med"/>
            </a:ln>
          </p:spPr>
        </p:cxnSp>
      </p:grpSp>
      <p:grpSp>
        <p:nvGrpSpPr>
          <p:cNvPr id="577" name="Groupe 16"/>
          <p:cNvGrpSpPr/>
          <p:nvPr/>
        </p:nvGrpSpPr>
        <p:grpSpPr>
          <a:xfrm>
            <a:off x="4066920" y="1413000"/>
            <a:ext cx="4321440" cy="3095640"/>
            <a:chOff x="4066920" y="1413000"/>
            <a:chExt cx="4321440" cy="3095640"/>
          </a:xfrm>
        </p:grpSpPr>
        <p:grpSp>
          <p:nvGrpSpPr>
            <p:cNvPr id="578" name="Groupe 15"/>
            <p:cNvGrpSpPr/>
            <p:nvPr/>
          </p:nvGrpSpPr>
          <p:grpSpPr>
            <a:xfrm>
              <a:off x="5434920" y="1413000"/>
              <a:ext cx="2953440" cy="3095640"/>
              <a:chOff x="5434920" y="1413000"/>
              <a:chExt cx="2953440" cy="3095640"/>
            </a:xfrm>
          </p:grpSpPr>
          <p:sp>
            <p:nvSpPr>
              <p:cNvPr id="579" name="Rectangle à coins arrondis 3"/>
              <p:cNvSpPr/>
              <p:nvPr/>
            </p:nvSpPr>
            <p:spPr>
              <a:xfrm>
                <a:off x="5434920" y="1413000"/>
                <a:ext cx="2882160" cy="1079280"/>
              </a:xfrm>
              <a:prstGeom prst="roundRect">
                <a:avLst>
                  <a:gd name="adj" fmla="val 16667"/>
                </a:avLst>
              </a:prstGeom>
              <a:solidFill>
                <a:srgbClr val="5c5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éveloppement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non planifié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80" name="Connecteur droit avec flèche 9"/>
              <p:cNvCxnSpPr/>
              <p:nvPr/>
            </p:nvCxnSpPr>
            <p:spPr>
              <a:xfrm>
                <a:off x="6659280" y="2491920"/>
                <a:ext cx="1153440" cy="2017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  <p:cxnSp>
            <p:nvCxnSpPr>
              <p:cNvPr id="581" name="Connecteur droit avec flèche 11"/>
              <p:cNvCxnSpPr/>
              <p:nvPr/>
            </p:nvCxnSpPr>
            <p:spPr>
              <a:xfrm>
                <a:off x="6947640" y="2491920"/>
                <a:ext cx="1441080" cy="361080"/>
              </a:xfrm>
              <a:prstGeom prst="straightConnector1">
                <a:avLst/>
              </a:prstGeom>
              <a:ln w="38160">
                <a:solidFill>
                  <a:srgbClr val="0a0aff"/>
                </a:solidFill>
                <a:miter/>
                <a:tailEnd len="med" type="arrow" w="med"/>
              </a:ln>
            </p:spPr>
          </p:cxnSp>
        </p:grpSp>
        <p:cxnSp>
          <p:nvCxnSpPr>
            <p:cNvPr id="582" name="Connecteur droit avec flèche 12"/>
            <p:cNvCxnSpPr/>
            <p:nvPr/>
          </p:nvCxnSpPr>
          <p:spPr>
            <a:xfrm flipH="1">
              <a:off x="4066920" y="2492280"/>
              <a:ext cx="2305440" cy="1874160"/>
            </a:xfrm>
            <a:prstGeom prst="straightConnector1">
              <a:avLst/>
            </a:prstGeom>
            <a:ln w="38160">
              <a:solidFill>
                <a:srgbClr val="0a0aff"/>
              </a:solidFill>
              <a:miter/>
              <a:tailEnd len="med" type="arrow" w="med"/>
            </a:ln>
          </p:spPr>
        </p:cxnSp>
      </p:grpSp>
      <p:sp>
        <p:nvSpPr>
          <p:cNvPr id="583" name="Espace réservé du numéro de diapositive 3"/>
          <p:cNvSpPr/>
          <p:nvPr/>
        </p:nvSpPr>
        <p:spPr>
          <a:xfrm>
            <a:off x="179280" y="6237360"/>
            <a:ext cx="1438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G.Payen    </a:t>
            </a:r>
            <a:fld id="{9EA5E313-E95B-4E4F-A17B-89A7981F450A}" type="slidenum">
              <a:rPr b="0" lang="fr-FR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Espace réservé du numéro de diapositiv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82E0-DB31-4013-8E92-0C64C3841F1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2"/>
          <p:cNvSpPr/>
          <p:nvPr/>
        </p:nvSpPr>
        <p:spPr>
          <a:xfrm>
            <a:off x="327672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0" y="928800"/>
            <a:ext cx="7905600" cy="5929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-1440" y="64612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ource: G.Pay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2. Développement de l’Accès </a:t>
            </a:r>
            <a:br>
              <a:rPr sz="4000"/>
            </a:br>
            <a:r>
              <a:rPr b="1" lang="fr-FR" sz="4000" spc="-1" strike="noStrike">
                <a:solidFill>
                  <a:srgbClr val="0033cc"/>
                </a:solidFill>
                <a:latin typeface="TradeGothic"/>
              </a:rPr>
              <a:t> à l’eau potable et à l’assainissement</a:t>
            </a:r>
            <a:endParaRPr b="0" lang="en-US" sz="4000" spc="-1" strike="noStrike">
              <a:solidFill>
                <a:srgbClr val="cc0000"/>
              </a:solidFill>
              <a:latin typeface="TradeGothic"/>
            </a:endParaRPr>
          </a:p>
        </p:txBody>
      </p:sp>
      <p:sp>
        <p:nvSpPr>
          <p:cNvPr id="589" name="Espace réservé du numéro de diapositive 5"/>
          <p:cNvSpPr/>
          <p:nvPr/>
        </p:nvSpPr>
        <p:spPr>
          <a:xfrm>
            <a:off x="8386920" y="6492960"/>
            <a:ext cx="7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D71A-5FAE-4BBA-9D3B-D6392ACA2399}" type="slidenum">
              <a:rPr b="0" lang="fr-FR" sz="1400" spc="-1" strike="noStrike">
                <a:solidFill>
                  <a:srgbClr val="000066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3:37:23Z</dcterms:created>
  <dc:creator>Payen</dc:creator>
  <dc:description/>
  <cp:keywords>Urban challenges défis urbains urgence urbaine Aquafed UNSGAB ban ki-moon</cp:keywords>
  <dc:language>en-US</dc:language>
  <cp:lastModifiedBy>gerard payen</cp:lastModifiedBy>
  <dcterms:modified xsi:type="dcterms:W3CDTF">2012-01-18T19:19:17Z</dcterms:modified>
  <cp:revision>549</cp:revision>
  <dc:subject/>
  <dc:title>Droit à l'eau en ville</dc:title>
</cp:coreProperties>
</file>